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07AE27B5-7840-4509-AEF6-A0542A4786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i õpeta programmeerimist, aga annab sissejuhat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.com/watch?v=FTSAiF9AHN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20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20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20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20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1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1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2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2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3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3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3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3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4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4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5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5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6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6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6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7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9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9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30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30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30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30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1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1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1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1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2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2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2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3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4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4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5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5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6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15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loengu järe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Line 6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252960" y="2879640"/>
            <a:ext cx="5024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6-09-07T10:53:31Z</dcterms:modified>
  <cp:revision>25</cp:revision>
  <dc:subject/>
  <dc:title> </dc:title>
</cp:coreProperties>
</file>